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C95F-974F-4612-BCF9-D30A50FE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F3B-1BE2-4E4F-A613-E16B80F8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09A8-C9E4-4D9B-A199-A164486E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794-F525-4896-B9DB-60DE3E65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71B-494F-4E77-A95A-DAA1971A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514-C68A-4CC9-8CA1-86D9E7DD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30C-7BB4-4B88-BF33-D03CE3DD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DE43-51B6-4E5F-8C76-258A0FAA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48E4-6261-48F1-996F-9CE0A1E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F25F-50E9-483C-AC6A-48C46473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B5E5-B9D3-4ECD-BB3F-13F90C2C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331-A253-415F-935A-1DCAFCD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9CAB-9E6A-4A6F-87F2-BB0A0942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C4D6-DFE3-408E-8C78-68961FD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4C9-BBFE-4A5E-8783-D58C055D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0E05-81B7-4397-A700-70F4140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A930-3EF4-4AEA-9131-A4547D4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84D-B225-40C9-811E-0EA48EB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2CDA-FC94-4A48-A951-DB05259C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9DE4-250E-46A2-A7EC-39F4C381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D3DD7-84AE-495E-8C75-54455906D3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51A66-C935-43B2-97F2-186F91FE79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AB633-1E5E-4F9C-B2DB-51B3BF34F6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92276-F542-4FAA-8CBE-0668450136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24C88-ABB9-4113-8006-60D6F8C80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076-1D9E-4501-9A0D-BF12CE1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FE450-2794-4118-91BE-3A2AD1BD77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7C40C-FD4E-4E58-B3E3-F55945BC4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BDF17-7397-4567-A9F7-3DB6DB2F03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DFAC6-F4AB-4CBE-B5C9-D06EBC924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5482C-3540-4A03-8C43-12B2057543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82CC2-C0EB-4E95-8B45-1834D728C1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68CD7-95D7-47E5-8278-E22DAA2AC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A27-2A9B-476C-96B3-CBBD6966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2F5-D18C-4122-BB09-4F69D88C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572-AA5E-465E-8A12-06406F3D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98A-75A7-4724-9285-1DC9C4E4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E08-C8DC-48C6-B76F-98D98C3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0D5-EC87-40BD-99D5-6E4865A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4D8-0CBB-4F23-863E-35C45A64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5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7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8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29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67" name="Rectangle 3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6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71" name="Rectangle 7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8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9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10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1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Rectangle 12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13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4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15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80" name="Rectangle 16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17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18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Rectangle 19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20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21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22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3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" name="Picture 24" descr="CHESS2"/>
            <p:cNvPicPr/>
            <p:nvPr/>
          </p:nvPicPr>
          <p:blipFill>
            <a:blip r:embed="rId2"/>
            <a:stretch/>
          </p:blipFill>
          <p:spPr>
            <a:xfrm>
              <a:off x="243000" y="1797120"/>
              <a:ext cx="1587240" cy="1676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89" name="Picture 25" descr="COMPASS2"/>
            <p:cNvPicPr/>
            <p:nvPr/>
          </p:nvPicPr>
          <p:blipFill>
            <a:blip r:embed="rId3"/>
            <a:stretch/>
          </p:blipFill>
          <p:spPr>
            <a:xfrm>
              <a:off x="243000" y="3481560"/>
              <a:ext cx="1589040" cy="28224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90" name="Picture 26" descr="HOURGLASS2"/>
            <p:cNvPicPr/>
            <p:nvPr/>
          </p:nvPicPr>
          <p:blipFill>
            <a:blip r:embed="rId4"/>
            <a:stretch/>
          </p:blipFill>
          <p:spPr>
            <a:xfrm>
              <a:off x="1849320" y="1795320"/>
              <a:ext cx="2438640" cy="4510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B81-D42B-4C8E-8BA2-2A864579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133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46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5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6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grpSp>
        <p:nvGrpSpPr>
          <p:cNvPr id="157" name="Oval 31"/>
          <p:cNvGrpSpPr/>
          <p:nvPr/>
        </p:nvGrpSpPr>
        <p:grpSpPr>
          <a:xfrm>
            <a:off x="7905600" y="6381720"/>
            <a:ext cx="946440" cy="415800"/>
            <a:chOff x="7905600" y="6381720"/>
            <a:chExt cx="946440" cy="415800"/>
          </a:xfrm>
        </p:grpSpPr>
        <p:pic>
          <p:nvPicPr>
            <p:cNvPr id="158" name="Oval 31" descr=""/>
            <p:cNvPicPr/>
            <p:nvPr/>
          </p:nvPicPr>
          <p:blipFill>
            <a:blip r:embed="rId5"/>
            <a:stretch/>
          </p:blipFill>
          <p:spPr>
            <a:xfrm>
              <a:off x="7905600" y="6381720"/>
              <a:ext cx="9464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058240" y="6456240"/>
              <a:ext cx="6476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c6d1d"/>
                </a:solidFill>
                <a:latin typeface="Myriad Web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62E9-B9D6-4744-9CE9-297270F05432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SI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axation (pays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starting (each state has its own rules for a corporate cha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arger, more bureaucratic than other forms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governmen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ypes of Corpo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Most corporations are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C corporations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, which are taxed as an entity by the federal govern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subchapter S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differs from a C corporation in how it is taxed. It is not taxed as an entity, rather its income or loss is applied to each shareholder and appears on their tax retur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limited liability company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similar to a C corporation, but with simpler operating requirements and tax procedures and greater liability protection for the business own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nonprofit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in which the company operates not to provide profit for its shareholders but to serve the good of socie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F7BA-0AD9-454F-8022-6C39FFA1F5A9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type is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your sit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trengths and weak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Corbel"/>
              </a:rPr>
              <a:t>Liability of Business Ow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Text Placeholder 2" descr=""/>
          <p:cNvPicPr/>
          <p:nvPr/>
        </p:nvPicPr>
        <p:blipFill>
          <a:blip r:embed="rId1"/>
          <a:stretch/>
        </p:blipFill>
        <p:spPr>
          <a:xfrm>
            <a:off x="225360" y="1378080"/>
            <a:ext cx="8961480" cy="2438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7200" y="2971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Un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 be legally forced to use personal money and possessions to pay the debt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not be legally forced to use personal money and possessions to pay business d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86D-22E2-49C8-A89B-0697F64F79BD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and managed by one individual who receives all the profits and bears all the los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starting and going out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ver profits and busines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raising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all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knowledge may be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usiness that is owned and managed by two or more individuals who receive all the profits and bear all the lo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raise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may combine manager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nflict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instability after death of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by stockholders and has rights and responsibilities as if it were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7:58Z</dcterms:created>
  <dc:creator>Trial User</dc:creator>
  <dc:description/>
  <dc:language>en-US</dc:language>
  <cp:lastModifiedBy>NHBOE</cp:lastModifiedBy>
  <dcterms:modified xsi:type="dcterms:W3CDTF">2015-09-02T19:44:23Z</dcterms:modified>
  <cp:revision>6</cp:revision>
  <dc:subject/>
  <dc:title>TYPES OF BUSINESSES</dc:title>
</cp:coreProperties>
</file>